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A57F-B0A2-4842-843C-86328B7663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879E-EB14-4301-81E3-B6EB911BD3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6A94-4EAD-4A01-AC0B-4F1B14213E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0BDC-3A0A-4766-BA9F-0C3BE0B0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C426-C9E8-404A-B3BD-4EC33778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9411-3841-483B-9FB9-26610C0E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8470-41E6-404E-B845-7800231B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1F81-3AB7-4450-AA01-91B3036D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BAFE-45F6-49FD-AAA4-5E965072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687A-9095-455B-95FB-001B8CFF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68AE-8464-46A7-9597-762337CA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8D58-3FF5-42A7-BF0F-88DA5CCB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0796-ECF3-4403-A489-443E964D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A4F1-E8DC-415A-8E87-F1070818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F52-9023-47C1-A135-65ABF004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3D74-FD72-45F3-B51D-E6065E269A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Содержимое 3"/>
          <p:cNvGrpSpPr/>
          <p:nvPr/>
        </p:nvGrpSpPr>
        <p:grpSpPr>
          <a:xfrm>
            <a:off x="396720" y="2359080"/>
            <a:ext cx="8680680" cy="2146320"/>
            <a:chOff x="396720" y="2359080"/>
            <a:chExt cx="8680680" cy="2146320"/>
          </a:xfrm>
        </p:grpSpPr>
        <p:pic>
          <p:nvPicPr>
            <p:cNvPr id="49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396720" y="2359080"/>
              <a:ext cx="868068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57200" y="2498760"/>
              <a:ext cx="82296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пыт внедрения программного комплекса «</a:t>
              </a: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M</a:t>
              </a:r>
              <a:r>
                <a:rPr b="0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Жизнь машины» на карьерах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TextBox 4" descr=""/>
          <p:cNvPicPr/>
          <p:nvPr/>
        </p:nvPicPr>
        <p:blipFill>
          <a:blip r:embed="rId2"/>
          <a:stretch/>
        </p:blipFill>
        <p:spPr>
          <a:xfrm>
            <a:off x="2352600" y="817560"/>
            <a:ext cx="5585040" cy="8953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Рисунок1.jpg"/>
          <p:cNvPicPr/>
          <p:nvPr/>
        </p:nvPicPr>
        <p:blipFill>
          <a:blip r:embed="rId3"/>
          <a:stretch/>
        </p:blipFill>
        <p:spPr>
          <a:xfrm>
            <a:off x="1000080" y="679320"/>
            <a:ext cx="1571760" cy="13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8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дение нормативно-справочной информаци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Рисунок 9" descr=""/>
          <p:cNvPicPr/>
          <p:nvPr/>
        </p:nvPicPr>
        <p:blipFill>
          <a:blip r:embed="rId2"/>
          <a:stretch/>
        </p:blipFill>
        <p:spPr>
          <a:xfrm>
            <a:off x="1857240" y="2071800"/>
            <a:ext cx="7045560" cy="444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TextBox 10"/>
          <p:cNvSpPr/>
          <p:nvPr/>
        </p:nvSpPr>
        <p:spPr>
          <a:xfrm>
            <a:off x="428760" y="121428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е каталоги деталей и сборочных един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2" descr=""/>
          <p:cNvPicPr/>
          <p:nvPr/>
        </p:nvPicPr>
        <p:blipFill>
          <a:blip r:embed="rId3"/>
          <a:stretch/>
        </p:blipFill>
        <p:spPr>
          <a:xfrm>
            <a:off x="1009800" y="1928880"/>
            <a:ext cx="7062480" cy="37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Рисунок 13" descr=""/>
          <p:cNvPicPr/>
          <p:nvPr/>
        </p:nvPicPr>
        <p:blipFill>
          <a:blip r:embed="rId4"/>
          <a:stretch/>
        </p:blipFill>
        <p:spPr>
          <a:xfrm>
            <a:off x="214200" y="1785960"/>
            <a:ext cx="7072560" cy="308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9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дение нормативно-справочной информаци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Box 10"/>
          <p:cNvSpPr/>
          <p:nvPr/>
        </p:nvSpPr>
        <p:spPr>
          <a:xfrm>
            <a:off x="428760" y="128592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злов и агрег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8" descr=""/>
          <p:cNvPicPr/>
          <p:nvPr/>
        </p:nvPicPr>
        <p:blipFill>
          <a:blip r:embed="rId2"/>
          <a:stretch/>
        </p:blipFill>
        <p:spPr>
          <a:xfrm>
            <a:off x="1285920" y="1857240"/>
            <a:ext cx="66358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9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дение нормативно-справочной информаци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10"/>
          <p:cNvSpPr/>
          <p:nvPr/>
        </p:nvSpPr>
        <p:spPr>
          <a:xfrm>
            <a:off x="428760" y="135720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ы на ТОиР обору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5" descr=""/>
          <p:cNvPicPr/>
          <p:nvPr/>
        </p:nvPicPr>
        <p:blipFill>
          <a:blip r:embed="rId2"/>
          <a:stretch/>
        </p:blipFill>
        <p:spPr>
          <a:xfrm>
            <a:off x="357120" y="2219400"/>
            <a:ext cx="8429760" cy="34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Рисунок 6" descr=""/>
          <p:cNvPicPr/>
          <p:nvPr/>
        </p:nvPicPr>
        <p:blipFill>
          <a:blip r:embed="rId3"/>
          <a:stretch/>
        </p:blipFill>
        <p:spPr>
          <a:xfrm>
            <a:off x="357120" y="2205000"/>
            <a:ext cx="8434440" cy="343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Рисунок 9" descr=""/>
          <p:cNvPicPr/>
          <p:nvPr/>
        </p:nvPicPr>
        <p:blipFill>
          <a:blip r:embed="rId4"/>
          <a:stretch/>
        </p:blipFill>
        <p:spPr>
          <a:xfrm>
            <a:off x="357120" y="2214720"/>
            <a:ext cx="8429760" cy="34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10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Calibri"/>
                </a:rPr>
                <a:t>Ведение учета объектов карьерной техни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Box 10"/>
          <p:cNvSpPr/>
          <p:nvPr/>
        </p:nvSpPr>
        <p:spPr>
          <a:xfrm>
            <a:off x="428760" y="128592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дение основных технических данных по каждой единице карьерной тех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4" descr="Рисунок1.png"/>
          <p:cNvPicPr/>
          <p:nvPr/>
        </p:nvPicPr>
        <p:blipFill>
          <a:blip r:embed="rId2"/>
          <a:stretch/>
        </p:blipFill>
        <p:spPr>
          <a:xfrm>
            <a:off x="1089000" y="2214720"/>
            <a:ext cx="6983280" cy="43891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5" descr="Рисунок2.png"/>
          <p:cNvPicPr/>
          <p:nvPr/>
        </p:nvPicPr>
        <p:blipFill>
          <a:blip r:embed="rId3"/>
          <a:stretch/>
        </p:blipFill>
        <p:spPr>
          <a:xfrm>
            <a:off x="1096920" y="2214720"/>
            <a:ext cx="6975360" cy="44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11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дение учета объектов карьерной техни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8760" y="142884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ние журналов перемещения узлов и агрег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2"/>
          <a:stretch/>
        </p:blipFill>
        <p:spPr>
          <a:xfrm>
            <a:off x="401760" y="2214720"/>
            <a:ext cx="8385120" cy="37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11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дение учета объектов карьерной техни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Box 10"/>
          <p:cNvSpPr/>
          <p:nvPr/>
        </p:nvSpPr>
        <p:spPr>
          <a:xfrm>
            <a:off x="428760" y="142884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ш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6" descr="3.bmp"/>
          <p:cNvPicPr/>
          <p:nvPr/>
        </p:nvPicPr>
        <p:blipFill>
          <a:blip r:embed="rId2"/>
          <a:stretch/>
        </p:blipFill>
        <p:spPr>
          <a:xfrm>
            <a:off x="357120" y="2166840"/>
            <a:ext cx="842976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12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ланирование и учет фактического выполнения работ по ТОи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10"/>
          <p:cNvSpPr/>
          <p:nvPr/>
        </p:nvSpPr>
        <p:spPr>
          <a:xfrm>
            <a:off x="428760" y="142884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лана-графика ТО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4" descr=""/>
          <p:cNvPicPr/>
          <p:nvPr/>
        </p:nvPicPr>
        <p:blipFill>
          <a:blip r:embed="rId2"/>
          <a:stretch/>
        </p:blipFill>
        <p:spPr>
          <a:xfrm>
            <a:off x="285840" y="2011320"/>
            <a:ext cx="8562960" cy="4591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285840" y="2065320"/>
            <a:ext cx="8553240" cy="450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Picture 4" descr=""/>
          <p:cNvPicPr/>
          <p:nvPr/>
        </p:nvPicPr>
        <p:blipFill>
          <a:blip r:embed="rId4"/>
          <a:stretch/>
        </p:blipFill>
        <p:spPr>
          <a:xfrm>
            <a:off x="357120" y="2143080"/>
            <a:ext cx="8352000" cy="42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12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ланирование и учет фактического выполнения работ по ТОи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Box 10"/>
          <p:cNvSpPr/>
          <p:nvPr/>
        </p:nvSpPr>
        <p:spPr>
          <a:xfrm>
            <a:off x="428760" y="142884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нарядов на ТО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8" descr="6.bmp"/>
          <p:cNvPicPr/>
          <p:nvPr/>
        </p:nvPicPr>
        <p:blipFill>
          <a:blip r:embed="rId2"/>
          <a:stretch/>
        </p:blipFill>
        <p:spPr>
          <a:xfrm>
            <a:off x="349200" y="2039760"/>
            <a:ext cx="8508960" cy="467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13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ланирование и учет фактического выполнения работ по ТОи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Box 10"/>
          <p:cNvSpPr/>
          <p:nvPr/>
        </p:nvSpPr>
        <p:spPr>
          <a:xfrm>
            <a:off x="428760" y="142884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отчетов о выполненных рабо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9" descr=""/>
          <p:cNvPicPr/>
          <p:nvPr/>
        </p:nvPicPr>
        <p:blipFill>
          <a:blip r:embed="rId2"/>
          <a:stretch/>
        </p:blipFill>
        <p:spPr>
          <a:xfrm>
            <a:off x="428760" y="2011320"/>
            <a:ext cx="8286480" cy="45226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0" descr=""/>
          <p:cNvPicPr/>
          <p:nvPr/>
        </p:nvPicPr>
        <p:blipFill>
          <a:blip r:embed="rId3"/>
          <a:stretch/>
        </p:blipFill>
        <p:spPr>
          <a:xfrm>
            <a:off x="428760" y="2000160"/>
            <a:ext cx="8286480" cy="45500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2" descr=""/>
          <p:cNvPicPr/>
          <p:nvPr/>
        </p:nvPicPr>
        <p:blipFill>
          <a:blip r:embed="rId4"/>
          <a:stretch/>
        </p:blipFill>
        <p:spPr>
          <a:xfrm>
            <a:off x="428760" y="2008080"/>
            <a:ext cx="8286480" cy="451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14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чет производственных показате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10"/>
          <p:cNvSpPr/>
          <p:nvPr/>
        </p:nvSpPr>
        <p:spPr>
          <a:xfrm>
            <a:off x="214200" y="142884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орт технологических параметров из АСД «Карье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249120" y="2500200"/>
            <a:ext cx="860904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5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Завершенные проект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Box 10"/>
          <p:cNvSpPr/>
          <p:nvPr/>
        </p:nvSpPr>
        <p:spPr>
          <a:xfrm>
            <a:off x="428760" y="2084400"/>
            <a:ext cx="8286480" cy="338580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ами ООО «НТЦ Горное Дело» совместно с НПП «СпецТек» проведено внедрение информационной системы «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M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Жизнь машины» в ООО «АНВ Горная компания» (Тугнуйский разрез ОАО «СУЭК»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14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чет производственных показате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Box 10"/>
          <p:cNvSpPr/>
          <p:nvPr/>
        </p:nvSpPr>
        <p:spPr>
          <a:xfrm>
            <a:off x="428760" y="142884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эксплуатационных состоя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5" descr=""/>
          <p:cNvPicPr/>
          <p:nvPr/>
        </p:nvPicPr>
        <p:blipFill>
          <a:blip r:embed="rId2"/>
          <a:stretch/>
        </p:blipFill>
        <p:spPr>
          <a:xfrm>
            <a:off x="382680" y="2143080"/>
            <a:ext cx="847548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15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перативный складской уч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10"/>
          <p:cNvSpPr/>
          <p:nvPr/>
        </p:nvSpPr>
        <p:spPr>
          <a:xfrm>
            <a:off x="428760" y="142884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заявок на ТМ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642960" y="2000160"/>
            <a:ext cx="7929720" cy="45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15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перативный складской уч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Box 10"/>
          <p:cNvSpPr/>
          <p:nvPr/>
        </p:nvSpPr>
        <p:spPr>
          <a:xfrm>
            <a:off x="428760" y="140508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орт данных из программы 1С: Бухгалт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5" descr="1.bmp"/>
          <p:cNvPicPr/>
          <p:nvPr/>
        </p:nvPicPr>
        <p:blipFill>
          <a:blip r:embed="rId2"/>
          <a:stretch/>
        </p:blipFill>
        <p:spPr>
          <a:xfrm>
            <a:off x="285840" y="2143080"/>
            <a:ext cx="3741480" cy="42148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2" descr="Безымянный.bmp"/>
          <p:cNvPicPr/>
          <p:nvPr/>
        </p:nvPicPr>
        <p:blipFill>
          <a:blip r:embed="rId3"/>
          <a:stretch/>
        </p:blipFill>
        <p:spPr>
          <a:xfrm>
            <a:off x="4000680" y="2143080"/>
            <a:ext cx="4857480" cy="42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0"/>
          <p:cNvSpPr/>
          <p:nvPr/>
        </p:nvSpPr>
        <p:spPr>
          <a:xfrm>
            <a:off x="428760" y="1643040"/>
            <a:ext cx="8286480" cy="472500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е понимание руководством и персоналом целей и задач внедр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и контроль процесса внедрения руководств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регламентных документов по управлению ТОиР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ложение о ТОиР, нормативная база ТОиР, средства анализа процесса ТОиР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е обеспе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ормирование приказов, положений, регламентирующих процесс внедрения и дальнейшего использования системы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 персонала, участвующего во внедрен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16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Факторы успешного внедрен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0"/>
          <p:cNvSpPr/>
          <p:nvPr/>
        </p:nvSpPr>
        <p:spPr>
          <a:xfrm>
            <a:off x="428760" y="2184480"/>
            <a:ext cx="8286480" cy="180036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Жизнь машины» обеспечивает управление техническим состоянием карьерной техники в реальном режиме времени, охватывая основные процессы эксплуатации и ТОи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16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во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16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ерспективы развит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Box 10"/>
          <p:cNvSpPr/>
          <p:nvPr/>
        </p:nvSpPr>
        <p:spPr>
          <a:xfrm>
            <a:off x="428760" y="2031840"/>
            <a:ext cx="8286480" cy="381060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плановой и фактической себестоимости эксплуатации каждой единицы карьерной техни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оптимальных сроков службы карьерной техни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птимальной структуры парка карьерной тех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5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Цель внедрен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Box 10"/>
          <p:cNvSpPr/>
          <p:nvPr/>
        </p:nvSpPr>
        <p:spPr>
          <a:xfrm>
            <a:off x="428760" y="2084400"/>
            <a:ext cx="8286480" cy="393444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эффективност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я техническим состоянием карьерной техники путем автоматизации процессов планирования ТОиР, формирования планов МТС, персонифицированного учета показателей работы карьерной техники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6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Задачи внедрен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Box 10"/>
          <p:cNvSpPr/>
          <p:nvPr/>
        </p:nvSpPr>
        <p:spPr>
          <a:xfrm>
            <a:off x="428760" y="1571760"/>
            <a:ext cx="8286480" cy="475740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коэффициента использования всех типов карьерной техн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издержек на закупку запчастей, содержание и эксплуатацию карьерной техн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уровня складских запасов цех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паспортизации основного и вспомогательного оборуд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межремонтного периода оборудования за счет своевременного принятия решений по проведению ремо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е полной и достоверной информации о себестоимости использования каждой единицы карьерной техн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оптимальных сроков службы карьерной техн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времени на подготовку и обмен данными между подразделениями по вопросам организации работ и параметров состояния оборуд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планирования регламентных работ на основе данных по наработке оборуд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аналитических запросов к данным, оперативный доступ к данным для анализ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общего документооборота по ТОиР для всех подразде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6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ход к внедрению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8" name=""/>
          <p:cNvGraphicFramePr/>
          <p:nvPr/>
        </p:nvGraphicFramePr>
        <p:xfrm>
          <a:off x="500040" y="1724040"/>
          <a:ext cx="8143920" cy="4133880"/>
        </p:xfrm>
        <a:graphic>
          <a:graphicData uri="http://schemas.openxmlformats.org/drawingml/2006/table">
            <a:tbl>
              <a:tblPr/>
              <a:tblGrid>
                <a:gridCol w="1857240"/>
                <a:gridCol w="3286440"/>
                <a:gridCol w="3000240"/>
              </a:tblGrid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RP-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ист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AM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сист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erprise Resource Planning, планирование ресурсов пред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M – Enterpris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set Management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правление основными фондами пред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ры сист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P R/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Галактик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P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ПАРУ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M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in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rtner in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 упра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тическое/стратегическое упра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тивное упра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ъекты упра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ючевые бизнес-процессы пред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ные фонды – машины и оборудование, соору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7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ход к внедрению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Box 10"/>
          <p:cNvSpPr/>
          <p:nvPr/>
        </p:nvSpPr>
        <p:spPr>
          <a:xfrm>
            <a:off x="428760" y="1500120"/>
            <a:ext cx="8286480" cy="490716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 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M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Жизнь машины» являетс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M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истемой. Поэтому ее внедрение позволя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дной сторо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единое информационное пространство для планирования, учета и принятия управленческих решений в целом по предприяти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ругой сторо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сти к минимуму вмешательство в существующие информационные систем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наиболее подходящие программные продукты для автоматизации каждой сферы деятельности организ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7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ход к внедрению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Схема 4" descr=""/>
          <p:cNvPicPr/>
          <p:nvPr/>
        </p:nvPicPr>
        <p:blipFill>
          <a:blip r:embed="rId2"/>
          <a:stretch/>
        </p:blipFill>
        <p:spPr>
          <a:xfrm>
            <a:off x="853920" y="1279440"/>
            <a:ext cx="7508880" cy="551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7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Функциональная схема ИС «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M</a:t>
              </a:r>
              <a:r>
                <a:rPr b="0" lang="ru-RU" sz="3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Жизнь машины»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Рисунок 4" descr=""/>
          <p:cNvPicPr/>
          <p:nvPr/>
        </p:nvPicPr>
        <p:blipFill>
          <a:blip r:embed="rId2"/>
          <a:srcRect l="0" t="5910" r="0" b="0"/>
          <a:stretch/>
        </p:blipFill>
        <p:spPr>
          <a:xfrm>
            <a:off x="496800" y="1285920"/>
            <a:ext cx="814716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Заголовок 1"/>
          <p:cNvGrpSpPr/>
          <p:nvPr/>
        </p:nvGrpSpPr>
        <p:grpSpPr>
          <a:xfrm>
            <a:off x="-60480" y="-36360"/>
            <a:ext cx="9259920" cy="1182600"/>
            <a:chOff x="-60480" y="-36360"/>
            <a:chExt cx="9259920" cy="1182600"/>
          </a:xfrm>
        </p:grpSpPr>
        <p:pic>
          <p:nvPicPr>
            <p:cNvPr id="8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0"/>
              <a:ext cx="914400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зультаты внедрени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Box 5"/>
          <p:cNvSpPr/>
          <p:nvPr/>
        </p:nvSpPr>
        <p:spPr>
          <a:xfrm>
            <a:off x="428760" y="1690560"/>
            <a:ext cx="8286480" cy="4115880"/>
          </a:xfrm>
          <a:prstGeom prst="rect">
            <a:avLst/>
          </a:prstGeom>
          <a:solidFill>
            <a:srgbClr val="d7e4bd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ние нормативно-справочной информации по всем типам карьерной техн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ние учета объектов карьерной техн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и учет фактического выполнения работ по ТОи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оказателей работы карьерной техн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потребностей в ТМЦ и оперативный складской уч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08:08:58Z</dcterms:created>
  <dc:creator>Kompaniets.Boris</dc:creator>
  <dc:description/>
  <dc:language>en-US</dc:language>
  <cp:lastModifiedBy>Kompaniets.Boris</cp:lastModifiedBy>
  <dcterms:modified xsi:type="dcterms:W3CDTF">2010-01-29T06:23:40Z</dcterms:modified>
  <cp:revision>187</cp:revision>
  <dc:subject/>
  <dc:title>Слайд 1</dc:title>
</cp:coreProperties>
</file>