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E355-3A86-4661-8DBC-446FEC3AF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6C5-3B72-4797-B4E3-7BE2C8681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13E-0470-4C60-A56C-13DE485FFB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08C-3DAB-4FA1-87A4-89C634A8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9D2-1FA3-4B10-B973-E448062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75C-2726-494B-99ED-3A9CFACC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F4F-4A43-470C-B6B5-CB370421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E0C-12D6-4637-A5C4-735A64F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4BB-1C6C-4A80-8043-6474333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CCA-B2AE-449F-9ACD-6B611993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BA9-28DC-4466-8AB7-586BCF5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AF3-B8F4-435B-A2CA-0EF0C6D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BE8-1C37-473D-A2A5-B72F610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D74-7F65-43D0-B08E-76A474F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6D8-BC97-4AFD-989F-CEECBEB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2E6-CD0E-45AC-AE08-BC4C74BD0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одержимое 3"/>
          <p:cNvGrpSpPr/>
          <p:nvPr/>
        </p:nvGrpSpPr>
        <p:grpSpPr>
          <a:xfrm>
            <a:off x="396720" y="2359080"/>
            <a:ext cx="8680680" cy="2146320"/>
            <a:chOff x="396720" y="2359080"/>
            <a:chExt cx="8680680" cy="214632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96720" y="2359080"/>
              <a:ext cx="868068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7200" y="2498760"/>
              <a:ext cx="82296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ыт внедрения программного комплекса «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M</a:t>
              </a: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Жизнь машины» на карьера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TextBox 4" descr=""/>
          <p:cNvPicPr/>
          <p:nvPr/>
        </p:nvPicPr>
        <p:blipFill>
          <a:blip r:embed="rId2"/>
          <a:stretch/>
        </p:blipFill>
        <p:spPr>
          <a:xfrm>
            <a:off x="2352600" y="817560"/>
            <a:ext cx="558504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1000080" y="679320"/>
            <a:ext cx="15717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Рисунок 9" descr=""/>
          <p:cNvPicPr/>
          <p:nvPr/>
        </p:nvPicPr>
        <p:blipFill>
          <a:blip r:embed="rId2"/>
          <a:stretch/>
        </p:blipFill>
        <p:spPr>
          <a:xfrm>
            <a:off x="1857240" y="2071800"/>
            <a:ext cx="7045560" cy="44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Box 10"/>
          <p:cNvSpPr/>
          <p:nvPr/>
        </p:nvSpPr>
        <p:spPr>
          <a:xfrm>
            <a:off x="428760" y="12142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каталоги деталей и сборочных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"/>
          <p:cNvPicPr/>
          <p:nvPr/>
        </p:nvPicPr>
        <p:blipFill>
          <a:blip r:embed="rId3"/>
          <a:stretch/>
        </p:blipFill>
        <p:spPr>
          <a:xfrm>
            <a:off x="1009800" y="1928880"/>
            <a:ext cx="706248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Рисунок 13" descr=""/>
          <p:cNvPicPr/>
          <p:nvPr/>
        </p:nvPicPr>
        <p:blipFill>
          <a:blip r:embed="rId4"/>
          <a:stretch/>
        </p:blipFill>
        <p:spPr>
          <a:xfrm>
            <a:off x="214200" y="1785960"/>
            <a:ext cx="7072560" cy="308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0"/>
          <p:cNvSpPr/>
          <p:nvPr/>
        </p:nvSpPr>
        <p:spPr>
          <a:xfrm>
            <a:off x="428760" y="12859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злов и агрег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8" descr=""/>
          <p:cNvPicPr/>
          <p:nvPr/>
        </p:nvPicPr>
        <p:blipFill>
          <a:blip r:embed="rId2"/>
          <a:stretch/>
        </p:blipFill>
        <p:spPr>
          <a:xfrm>
            <a:off x="1285920" y="1857240"/>
            <a:ext cx="66358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28760" y="135720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на ТОиР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2"/>
          <a:stretch/>
        </p:blipFill>
        <p:spPr>
          <a:xfrm>
            <a:off x="357120" y="2219400"/>
            <a:ext cx="8429760" cy="34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6" descr=""/>
          <p:cNvPicPr/>
          <p:nvPr/>
        </p:nvPicPr>
        <p:blipFill>
          <a:blip r:embed="rId3"/>
          <a:stretch/>
        </p:blipFill>
        <p:spPr>
          <a:xfrm>
            <a:off x="357120" y="2205000"/>
            <a:ext cx="8434440" cy="34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Рисунок 9" descr=""/>
          <p:cNvPicPr/>
          <p:nvPr/>
        </p:nvPicPr>
        <p:blipFill>
          <a:blip r:embed="rId4"/>
          <a:stretch/>
        </p:blipFill>
        <p:spPr>
          <a:xfrm>
            <a:off x="357120" y="2214720"/>
            <a:ext cx="8429760" cy="34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Ведение учета объектов карьерной тех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0"/>
          <p:cNvSpPr/>
          <p:nvPr/>
        </p:nvSpPr>
        <p:spPr>
          <a:xfrm>
            <a:off x="428760" y="128592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дение основных технических данных по каждой единице карьер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4" descr="Рисунок1.png"/>
          <p:cNvPicPr/>
          <p:nvPr/>
        </p:nvPicPr>
        <p:blipFill>
          <a:blip r:embed="rId2"/>
          <a:stretch/>
        </p:blipFill>
        <p:spPr>
          <a:xfrm>
            <a:off x="1089000" y="2214720"/>
            <a:ext cx="6983280" cy="4389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Рисунок2.png"/>
          <p:cNvPicPr/>
          <p:nvPr/>
        </p:nvPicPr>
        <p:blipFill>
          <a:blip r:embed="rId3"/>
          <a:stretch/>
        </p:blipFill>
        <p:spPr>
          <a:xfrm>
            <a:off x="1096920" y="2214720"/>
            <a:ext cx="697536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учета объектов карьерной тех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журналов перемещения узлов и агрег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401760" y="2214720"/>
            <a:ext cx="838512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1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учета объектов карьерной тех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6" descr="3.bmp"/>
          <p:cNvPicPr/>
          <p:nvPr/>
        </p:nvPicPr>
        <p:blipFill>
          <a:blip r:embed="rId2"/>
          <a:stretch/>
        </p:blipFill>
        <p:spPr>
          <a:xfrm>
            <a:off x="357120" y="2166840"/>
            <a:ext cx="84297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2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лана-графика ТО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285840" y="2011320"/>
            <a:ext cx="8562960" cy="459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285840" y="2065320"/>
            <a:ext cx="8553240" cy="45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357120" y="2143080"/>
            <a:ext cx="8352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2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рядов на ТО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8" descr="6.bmp"/>
          <p:cNvPicPr/>
          <p:nvPr/>
        </p:nvPicPr>
        <p:blipFill>
          <a:blip r:embed="rId2"/>
          <a:stretch/>
        </p:blipFill>
        <p:spPr>
          <a:xfrm>
            <a:off x="349200" y="2039760"/>
            <a:ext cx="8508960" cy="46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3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отчетов о выполненных раб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9" descr=""/>
          <p:cNvPicPr/>
          <p:nvPr/>
        </p:nvPicPr>
        <p:blipFill>
          <a:blip r:embed="rId2"/>
          <a:stretch/>
        </p:blipFill>
        <p:spPr>
          <a:xfrm>
            <a:off x="428760" y="2011320"/>
            <a:ext cx="8286480" cy="4522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8286480" cy="4550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2" descr=""/>
          <p:cNvPicPr/>
          <p:nvPr/>
        </p:nvPicPr>
        <p:blipFill>
          <a:blip r:embed="rId4"/>
          <a:stretch/>
        </p:blipFill>
        <p:spPr>
          <a:xfrm>
            <a:off x="428760" y="2008080"/>
            <a:ext cx="828648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4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ет производственных показате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0"/>
          <p:cNvSpPr/>
          <p:nvPr/>
        </p:nvSpPr>
        <p:spPr>
          <a:xfrm>
            <a:off x="214200" y="1428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технологических параметров из АСД «Карь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49120" y="2500200"/>
            <a:ext cx="860904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вершенные проект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0"/>
          <p:cNvSpPr/>
          <p:nvPr/>
        </p:nvSpPr>
        <p:spPr>
          <a:xfrm>
            <a:off x="428760" y="2084400"/>
            <a:ext cx="8286480" cy="33858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ми ООО «НТЦ Горное Дело» совместно с НПП «СпецТек» проведено внедрение информационной системы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в ООО «АНВ Горная компания» (Тугнуйский разрез ОАО «СУЭК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ет производственных показате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эксплуатационных состоя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"/>
          <p:cNvPicPr/>
          <p:nvPr/>
        </p:nvPicPr>
        <p:blipFill>
          <a:blip r:embed="rId2"/>
          <a:stretch/>
        </p:blipFill>
        <p:spPr>
          <a:xfrm>
            <a:off x="382680" y="2143080"/>
            <a:ext cx="84754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еративный складской уч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аявок на ТМ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642960" y="2000160"/>
            <a:ext cx="79297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еративный складской уч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10"/>
          <p:cNvSpPr/>
          <p:nvPr/>
        </p:nvSpPr>
        <p:spPr>
          <a:xfrm>
            <a:off x="428760" y="14050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данных из программы 1С: Бухгалт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1.bmp"/>
          <p:cNvPicPr/>
          <p:nvPr/>
        </p:nvPicPr>
        <p:blipFill>
          <a:blip r:embed="rId2"/>
          <a:stretch/>
        </p:blipFill>
        <p:spPr>
          <a:xfrm>
            <a:off x="285840" y="2143080"/>
            <a:ext cx="3741480" cy="4214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2" descr="Безымянный.bmp"/>
          <p:cNvPicPr/>
          <p:nvPr/>
        </p:nvPicPr>
        <p:blipFill>
          <a:blip r:embed="rId3"/>
          <a:stretch/>
        </p:blipFill>
        <p:spPr>
          <a:xfrm>
            <a:off x="4000680" y="2143080"/>
            <a:ext cx="485748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0"/>
          <p:cNvSpPr/>
          <p:nvPr/>
        </p:nvSpPr>
        <p:spPr>
          <a:xfrm>
            <a:off x="428760" y="1643040"/>
            <a:ext cx="8286480" cy="4725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понимание руководством и персоналом целей и задач внедр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 контроль процесса внедрения руководст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гламентных документов по управлению ТОи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ожение о ТОиР, нормативная база ТОиР, средства анализа процесса ТОиР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приказов, положений, регламентирующих процесс внедрения и дальнейшего использования системы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персонала, участвующего во внедр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акторы успешного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428760" y="2184480"/>
            <a:ext cx="8286480" cy="18003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обеспечивает управление техническим состоянием карьерной техники в реальном режиме времени, охватывая основные процессы эксплуатации и ТО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спективы развит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0"/>
          <p:cNvSpPr/>
          <p:nvPr/>
        </p:nvSpPr>
        <p:spPr>
          <a:xfrm>
            <a:off x="428760" y="2031840"/>
            <a:ext cx="8286480" cy="38106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лановой и фактической себестоимости эксплуатации каждой единицы карьерной тех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птимальных сроков службы карьерной тех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птимальной структуры парка карьерной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10"/>
          <p:cNvSpPr/>
          <p:nvPr/>
        </p:nvSpPr>
        <p:spPr>
          <a:xfrm>
            <a:off x="428760" y="2084400"/>
            <a:ext cx="8286480" cy="393444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техническим состоянием карьерной техники путем автоматизации процессов планирования ТОиР, формирования планов МТС, персонифицированного учета показателей работы карьерной техники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дачи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0"/>
          <p:cNvSpPr/>
          <p:nvPr/>
        </p:nvSpPr>
        <p:spPr>
          <a:xfrm>
            <a:off x="428760" y="1571760"/>
            <a:ext cx="8286480" cy="47574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эффициента использования всех типов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издержек на закупку запчастей, содержание и эксплуатацию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уровня складских запасов цех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аспортизации основного и вспомогательного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межремонтного периода оборудования за счет своевременного принятия решений по проведению ремо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полной и достоверной информации о себестоимости использования каждой единицы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птимальных сроков службы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времени на подготовку и обмен данными между подразделениями по вопросам организации работ и параметров состояния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ланирования регламентных работ на основе данных по наработке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аналитических запросов к данным, оперативный доступ к данным для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щего документооборота по ТОиР для всех подразде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500040" y="1724040"/>
          <a:ext cx="8143920" cy="4133880"/>
        </p:xfrm>
        <a:graphic>
          <a:graphicData uri="http://schemas.openxmlformats.org/drawingml/2006/table">
            <a:tbl>
              <a:tblPr/>
              <a:tblGrid>
                <a:gridCol w="1857240"/>
                <a:gridCol w="3286440"/>
                <a:gridCol w="300024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RP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A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rprise Resource Planning, планирование ресурсов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M – Enterpri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et Management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 основными фондами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 сист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P R/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Галакт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АР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in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tner in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тическое/стратегическое 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ивное 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ы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ючевые бизнес-процессы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фонды – машины и оборудование, соору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10"/>
          <p:cNvSpPr/>
          <p:nvPr/>
        </p:nvSpPr>
        <p:spPr>
          <a:xfrm>
            <a:off x="428760" y="1500120"/>
            <a:ext cx="8286480" cy="49071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 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явля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ой. Поэтому ее внедрение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единое информационное пространство для планирования, учета и принятия управленческих решений в целом по предпри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сти к минимуму вмешательство в существующие информационные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аиболее подходящие программные продукты для автоматизации каждой сферы деятельности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Схема 4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75088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ункциональная схема ИС «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M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Жизнь машины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4" descr=""/>
          <p:cNvPicPr/>
          <p:nvPr/>
        </p:nvPicPr>
        <p:blipFill>
          <a:blip r:embed="rId2"/>
          <a:srcRect l="0" t="5910" r="0" b="0"/>
          <a:stretch/>
        </p:blipFill>
        <p:spPr>
          <a:xfrm>
            <a:off x="496800" y="1285920"/>
            <a:ext cx="814716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5"/>
          <p:cNvSpPr/>
          <p:nvPr/>
        </p:nvSpPr>
        <p:spPr>
          <a:xfrm>
            <a:off x="428760" y="1690560"/>
            <a:ext cx="8286480" cy="41158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нормативно-справочной информации по всем типам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учета объектов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и учет фактического выполнения работ по ТОи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оказателей работы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отребностей в ТМЦ и оперативный складско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8:58Z</dcterms:created>
  <dc:creator>Kompaniets.Boris</dc:creator>
  <dc:description/>
  <dc:language>en-US</dc:language>
  <cp:lastModifiedBy>Kompaniets.Boris</cp:lastModifiedBy>
  <dcterms:modified xsi:type="dcterms:W3CDTF">2010-01-29T06:23:40Z</dcterms:modified>
  <cp:revision>187</cp:revision>
  <dc:subject/>
  <dc:title>Слайд 1</dc:title>
</cp:coreProperties>
</file>